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1.png" ContentType="image/png"/>
  <Override PartName="/ppt/media/image20.jpeg" ContentType="image/jpeg"/>
  <Override PartName="/ppt/media/image29.png" ContentType="image/png"/>
  <Override PartName="/ppt/media/image6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4D54-990E-4FDB-99D5-D63D682A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8838-0BB9-4BA4-8F44-963D6CE4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5A0C-6E4E-4E3D-9819-49606CEDF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B1CF-CAB9-434B-BFED-04640F52F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7366-EEB7-4249-A568-C1B7BF3D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5F02-62F3-48F6-A2AB-FFA4B341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0703-E8AB-4086-BDD3-EBEE1E16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45DF-3221-476F-B212-9D835329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A9C7-47B1-4749-A5E5-5DB57CC8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558E-7A47-474D-B896-9C1EF589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0BEF-8236-463A-A213-1E0F838F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861D-CBD7-4E13-84D9-B354DB84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4AEB-BFA1-4628-9CAB-426A2DF46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1430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as Comida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6520" y="1447920"/>
            <a:ext cx="68580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 Colleen Reard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410080" y="2362320"/>
            <a:ext cx="3176640" cy="238104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Tahoma"/>
              </a:rPr>
              <a:t>Para el desayuno me gusta comer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2857680" cy="1524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2743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bbe0e3"/>
                </a:solidFill>
                <a:latin typeface="Tahoma"/>
              </a:rPr>
              <a:t>bollos de can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562720" y="1219320"/>
            <a:ext cx="2738160" cy="205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709680" y="335196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bbe0e3"/>
                </a:solidFill>
                <a:latin typeface="Arial"/>
              </a:rPr>
              <a:t>panque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80880" y="3657600"/>
            <a:ext cx="2533680" cy="1800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16800" y="550188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bbe0e3"/>
                </a:solidFill>
                <a:latin typeface="Tahoma"/>
              </a:rPr>
              <a:t>encantos de cere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bbe0e3"/>
                </a:solidFill>
                <a:latin typeface="Tahoma"/>
              </a:rPr>
              <a:t>suerte con lech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3505320" y="4114800"/>
            <a:ext cx="2895480" cy="2168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352680" y="38098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ahoma"/>
              </a:rPr>
              <a:t>Un café con lech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3809880" y="1219320"/>
            <a:ext cx="1175040" cy="2133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912760" y="3245760"/>
            <a:ext cx="33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bbe0e3"/>
                </a:solidFill>
                <a:latin typeface="Tahoma"/>
              </a:rPr>
              <a:t>de jugo de naranja Tropic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Tahoma"/>
              </a:rPr>
              <a:t>Para </a:t>
            </a:r>
            <a:r>
              <a:rPr b="0" lang="es-ES" sz="4000" spc="-1" strike="noStrike">
                <a:solidFill>
                  <a:srgbClr val="99cc00"/>
                </a:solidFill>
                <a:latin typeface="Arial"/>
              </a:rPr>
              <a:t>un merienda</a:t>
            </a:r>
            <a:r>
              <a:rPr b="0" lang="en-US" sz="4000" spc="-1" strike="noStrike">
                <a:solidFill>
                  <a:srgbClr val="99cc00"/>
                </a:solidFill>
                <a:latin typeface="Tahoma"/>
              </a:rPr>
              <a:t> me gusta com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2280" y="914400"/>
            <a:ext cx="3810240" cy="2533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162400" y="4267080"/>
            <a:ext cx="3981600" cy="2389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172200" y="1371600"/>
            <a:ext cx="2343240" cy="195264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6477120" y="3809880"/>
            <a:ext cx="1995480" cy="457200"/>
            <a:chOff x="6477120" y="3809880"/>
            <a:chExt cx="1995480" cy="457200"/>
          </a:xfrm>
        </p:grpSpPr>
        <p:sp>
          <p:nvSpPr>
            <p:cNvPr id="60" name=""/>
            <p:cNvSpPr txBox="1"/>
            <p:nvPr/>
          </p:nvSpPr>
          <p:spPr>
            <a:xfrm>
              <a:off x="6477120" y="3809880"/>
              <a:ext cx="19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99cc00"/>
                  </a:solidFill>
                  <a:latin typeface="Arial"/>
                </a:rPr>
                <a:t>zanahori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838080" y="4253040"/>
            <a:ext cx="3429000" cy="2604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52280" y="28944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cc00"/>
                </a:solidFill>
                <a:latin typeface="Arial"/>
              </a:rPr>
              <a:t>una </a:t>
            </a:r>
            <a:r>
              <a:rPr b="1" lang="es-ES" sz="2400" spc="-1" strike="noStrike">
                <a:solidFill>
                  <a:srgbClr val="99cc00"/>
                </a:solidFill>
                <a:latin typeface="Tahoma"/>
              </a:rPr>
              <a:t>galleta</a:t>
            </a:r>
            <a:r>
              <a:rPr b="1" lang="es-ES" sz="2400" spc="-1" strike="noStrike">
                <a:solidFill>
                  <a:srgbClr val="99cc00"/>
                </a:solidFill>
                <a:latin typeface="Arial"/>
              </a:rPr>
              <a:t> con nut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86600" y="2254320"/>
            <a:ext cx="130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cc00"/>
                </a:solidFill>
                <a:latin typeface="Arial"/>
              </a:rPr>
              <a:t>las u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160" y="3808800"/>
            <a:ext cx="32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cc00"/>
                </a:solidFill>
                <a:latin typeface="Arial"/>
              </a:rPr>
              <a:t>un montón de don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4038480" y="2666880"/>
            <a:ext cx="2286000" cy="1428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09880" y="2208600"/>
            <a:ext cx="25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cc00"/>
                </a:solidFill>
                <a:latin typeface="Arial"/>
              </a:rPr>
              <a:t>una caja de ju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ara </a:t>
            </a: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un almuerzo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e gusta co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895480" cy="1962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-69120" y="532800"/>
            <a:ext cx="26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os dedos de pollo c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apas fritas fran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400800" y="6858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356880" y="685440"/>
            <a:ext cx="19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antequill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aní y la pel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228600" y="3657600"/>
            <a:ext cx="2895480" cy="2533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99520" y="6323760"/>
            <a:ext cx="26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una ensalada con p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3352680" y="1600200"/>
            <a:ext cx="2562480" cy="2562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445560" y="1599480"/>
            <a:ext cx="23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a vitamina del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5943600" y="4267080"/>
            <a:ext cx="3000240" cy="2248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328080" y="649044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porciones de fru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ara </a:t>
            </a: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un </a:t>
            </a: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cena</a:t>
            </a: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e gusta co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52280" y="838080"/>
            <a:ext cx="3543480" cy="2475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2360" y="32756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queso a la parr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75640" y="3276000"/>
            <a:ext cx="212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una bolsa gr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 papas fr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086600" y="762120"/>
            <a:ext cx="1809720" cy="2523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4114800" y="1828800"/>
            <a:ext cx="2343240" cy="1952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465440" y="109764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iyi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6629400" y="4267080"/>
            <a:ext cx="2162160" cy="2114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125680" y="4875480"/>
            <a:ext cx="156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at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astel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447920" y="4267080"/>
            <a:ext cx="2943000" cy="2314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-43200" y="502812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queso pa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iz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ahoma"/>
              </a:rPr>
              <a:t>Para </a:t>
            </a:r>
            <a:r>
              <a:rPr b="0" lang="es-ES" sz="4000" spc="-1" strike="noStrike">
                <a:solidFill>
                  <a:srgbClr val="ff00ff"/>
                </a:solidFill>
                <a:latin typeface="Tahoma"/>
              </a:rPr>
              <a:t>un </a:t>
            </a:r>
            <a:r>
              <a:rPr b="0" lang="es-ES" sz="4000" spc="-1" strike="noStrike">
                <a:solidFill>
                  <a:srgbClr val="ff00ff"/>
                </a:solidFill>
                <a:latin typeface="Arial"/>
              </a:rPr>
              <a:t>desierto me gusta com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3429000" cy="2498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01560" y="3808800"/>
            <a:ext cx="24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ff"/>
                </a:solidFill>
                <a:latin typeface="Tahoma"/>
              </a:rPr>
              <a:t>una magdal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477120" y="1295280"/>
            <a:ext cx="2381040" cy="2857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164360" y="4189680"/>
            <a:ext cx="170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ff"/>
                </a:solidFill>
                <a:latin typeface="Arial"/>
              </a:rPr>
              <a:t>un mont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ff"/>
                </a:solidFill>
                <a:latin typeface="Arial"/>
              </a:rPr>
              <a:t>de hel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304920" y="4419720"/>
            <a:ext cx="3352680" cy="2246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91520" y="6460200"/>
            <a:ext cx="348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ff"/>
                </a:solidFill>
                <a:latin typeface="Tahoma"/>
              </a:rPr>
              <a:t>brownie de chocolate do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4267080" y="1523880"/>
            <a:ext cx="2124360" cy="2152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196880" y="3580560"/>
            <a:ext cx="23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ff"/>
                </a:solidFill>
                <a:latin typeface="Tahoma"/>
              </a:rPr>
              <a:t>chocolate cal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5334120" y="4191120"/>
            <a:ext cx="1847880" cy="2466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684960" y="5180400"/>
            <a:ext cx="169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ff"/>
                </a:solidFill>
                <a:latin typeface="Tahoma"/>
              </a:rPr>
              <a:t>nutella c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ff"/>
                </a:solidFill>
                <a:latin typeface="Tahoma"/>
              </a:rPr>
              <a:t>galle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ff"/>
                </a:solidFill>
                <a:latin typeface="Tahoma"/>
              </a:rPr>
              <a:t>de choco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12:33:08Z</dcterms:created>
  <dc:creator>reardoncol</dc:creator>
  <dc:description/>
  <dc:language>en-US</dc:language>
  <cp:lastModifiedBy>reardoncol</cp:lastModifiedBy>
  <dcterms:modified xsi:type="dcterms:W3CDTF">2012-04-05T13:59:57Z</dcterms:modified>
  <cp:revision>6</cp:revision>
  <dc:subject/>
  <dc:title>Las Comidas </dc:title>
</cp:coreProperties>
</file>